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AE5-5A5F-4A6F-99E5-476D560B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F96-7591-43F0-96CA-9CAC8508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E77-04F5-4451-92B1-C8615DD3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F6D-65F0-451E-BFDA-6EFA5B9D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50C6-DB85-4803-AD4D-8AA7176A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4375-0FCC-4AC3-B3B0-56D9EAC0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CE55-FE3F-4490-BCB4-5D4A1A26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F0B3-C301-4367-9522-79F4D046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87DA-B52E-43AC-AB35-D813429C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A73E-9CB5-4A5A-A9BB-364EA4BE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1D45-5A1F-4B0E-A998-8F937C9B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449-EAC4-443E-9D50-0CCACB38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2403-3C09-49B4-895D-23A2B244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E518-DE44-46A1-BA38-BF48A6D5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3979-E77B-4150-87BE-207FD7EC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38F5-1DFF-4ADA-8800-A1DB8639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1D2E-5DD5-4AAB-8882-C6F40755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F08-1CB3-4F62-A6E0-11F9AF2D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C5C-2BCF-434C-848C-7D219E3C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646-A71F-483D-8743-289DCDD4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AA8-0ECB-45B6-AA99-6255C0F3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3FB-B178-48B5-9658-04374AB4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8041-0D55-4D53-B4AA-CD54B5A2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201-F491-43E6-A049-7C315BF5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5D4D-738D-4A3D-9BBF-6252FD732D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445D-DFD5-4BAE-9B6C-FA75AA7AB7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IOP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arch 16, 2007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azing Aspen Sa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harismatic Kim F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rcastic Scott E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c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the rate at which information is presented during a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the nature of the lesson content and the level of the students’ backgrou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practice but becomes easier as teachers develop familiarity with their students’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siting the Obj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engage in practice with the four features of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sson Delive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omponent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discuss the importanc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sson Delive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jectiv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engage in practice with the four features of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sson Delive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omponent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discuss the importanc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sson Delive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sson Delive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 objectiv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supported by lesson deliv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 obj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early supported by lesson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engag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90-100% of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lesson is appropriate to the students’ abilit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tent &amp; Language Obj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should be stated orally and 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objectives allow students to know the direction of the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riting Content &amp; Language Objectiv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bjectives should contain these four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om’s Ver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(standar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(meaningful activi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anguage Obj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 goal for quality language practice (reading, writing, speaking, or listening) in the content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using academic language and content knowledge in language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observable and measur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done by all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one individually, in pairs, or in a group sit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s of Content &amp; Language Objectiv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WBA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dentif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y events in an historical er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y constructing a timeli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WBA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pla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y events in an historical er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rally presenting their timeline to the class including key vocabula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tent or Language Objectiv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BAT differentiate between a plant and animal cell by illustrating the cells side by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BAT justify the equivalency among decimals, fractions and percents by orally presenting their match to the class using the words decimal, fraction and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BAT demonstrate text comprehension by sequencing events on a story str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BAT apply active reading strategies to comprehend text by writing personal responses on a double-entry diary 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ent Engage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planned 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explanation of academic tasks or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amount of time spent on an academic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classroom management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for students to apply learning in a meaningful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student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 design meets the language and learning needs of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21:53:14Z</dcterms:created>
  <dc:creator>annramirez</dc:creator>
  <dc:description/>
  <dc:language>en-US</dc:language>
  <cp:lastModifiedBy>asanders1</cp:lastModifiedBy>
  <dcterms:modified xsi:type="dcterms:W3CDTF">2007-03-14T16:33:08Z</dcterms:modified>
  <cp:revision>63</cp:revision>
  <dc:subject/>
  <dc:title>District #6 SIOP Trainer of Trainers </dc:title>
</cp:coreProperties>
</file>